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5187-144F-4E2C-93DD-9AB69486D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70B2-28B8-442E-BE12-960188508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2EF-FDF6-4980-939E-66792108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A0A-A1A2-4B61-B02B-DD85CDE2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BCD-D79A-4450-94FD-18549D8B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CDC-28E0-4283-861B-522B268E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535-4B08-4C1E-ADCF-3A6FDF34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3BD-4E58-4B03-A99A-0C9E3156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3754-F66C-46CF-8B61-35A61445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EB5-4799-46EC-A0C7-4B98DBCA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E25-6C7D-4228-ACDE-C5E6B73D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4FB-8F54-4E56-81DC-950EB29E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DF6-C2A2-4DDA-A5E7-D73BB024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332-8A11-42DF-949B-2863C134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7AA6-0ABC-4026-8A56-15866EBED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elin Col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6002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buenos dias? Mi nombre es Kaelin. Yo vivo en el New York City. Yo tengo catorce años.Yo tengo no hermanos. Yo soy bi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Quién quierer vomanos afuer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da y tú? Nosotras tenemos estud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qué ha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4956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í! ¿Cuándo? Yo voy corr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05520"/>
            <a:ext cx="44197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perar,pued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962000" y="5791320"/>
            <a:ext cx="648000" cy="933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7913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ansada y quiero comer cenar. Adi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s ellas?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2819520" y="647712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s hermanas son boni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6" descr="Photo on 2011-10-21 at 13.53 #2.jpg"/>
          <p:cNvPicPr/>
          <p:nvPr/>
        </p:nvPicPr>
        <p:blipFill>
          <a:blip r:embed="rId12"/>
          <a:stretch/>
        </p:blipFill>
        <p:spPr>
          <a:xfrm>
            <a:off x="2114640" y="6400800"/>
            <a:ext cx="4633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38Z</dcterms:modified>
  <cp:revision>106</cp:revision>
  <dc:subject/>
  <dc:title>Profile</dc:title>
</cp:coreProperties>
</file>